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598-31CC-4CFA-914F-E6ABC4EB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DA5-A814-4009-B788-721C58B6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478-2B9F-4468-9F13-65C49C7A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805-43A3-4C30-B900-F9D1D1D3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1F30-82FA-4CB5-8E6D-1978545B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034D-0714-4712-B3DB-7A7E9F96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0145-D8C7-45F9-A600-7AF40A5A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B7E4-37D9-434C-A399-FA4B8516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888-FFCF-4ADE-A7CD-149BFAF1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36C9-6298-42FF-954A-CB37380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DC3-AD8F-40FF-A996-4534C87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128-8FFA-4FCC-8FA6-79A493D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969E-4820-40CC-86BA-414BC94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435C-74D6-409D-A5BB-031C48D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E569-FBA2-4C30-B47C-9A42807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E85F-A541-4E4F-AAE8-ED4214E3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6CD-9A93-4077-88CB-ECB30A3F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ED4-1026-412A-B679-07CD78E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465-239B-4B43-844A-628CC22B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C2F-42B8-4F1C-ADF8-A351278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D64-EE4D-4874-BDFF-9F65A99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BBC-3B50-40C0-8B8C-765792B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69B-98BB-44C0-BF4F-42E3CD3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4F4-48D1-4EFD-9AAB-F9E7E7D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F5C5-3CDF-400A-B0A0-102599A3C6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6FF-AF63-48BD-AC23-15F1A04246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Niveles de Memori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ary Carmen Jarur Muño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www.udec.cl/~mjar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963A-BC86-444B-AF55-8A8C01B3F8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Prim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ach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fini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AM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Random Acces Memo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lip - Flop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elemento de dos est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RAM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Static RA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RAM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Dinamic RA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DRAM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Sincronic DRA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85800" y="761040"/>
            <a:ext cx="2438280" cy="609480"/>
          </a:xfrm>
          <a:custGeom>
            <a:avLst/>
            <a:gdLst>
              <a:gd name="textAreaLeft" fmla="*/ 536040 w 2438280"/>
              <a:gd name="textAreaRight" fmla="*/ 1902240 w 24382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0160" y="803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24A-DF55-47E3-8D4E-7DB51166FA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Prim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ach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stituida por SRAM (Static RA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amaño de Cac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Función de Correspondenci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lgoritmo de Sustitu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85800" y="761040"/>
            <a:ext cx="2438280" cy="609480"/>
          </a:xfrm>
          <a:custGeom>
            <a:avLst/>
            <a:gdLst>
              <a:gd name="textAreaLeft" fmla="*/ 536040 w 2438280"/>
              <a:gd name="textAreaRight" fmla="*/ 1902240 w 24382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80160" y="803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163-AC30-428A-9BF5-75FA00B68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Primaria</a:t>
            </a:r>
            <a:br>
              <a:rPr sz="44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continuación,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ach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ítica de Escritura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Coherencia de Da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maño de Bloque o Líne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ache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Uno o dos niveles, Unificada o Partid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85800" y="761040"/>
            <a:ext cx="2438280" cy="609480"/>
          </a:xfrm>
          <a:custGeom>
            <a:avLst/>
            <a:gdLst>
              <a:gd name="textAreaLeft" fmla="*/ 536040 w 2438280"/>
              <a:gd name="textAreaRight" fmla="*/ 1902240 w 24382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56480" y="879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88D-5109-4EAE-B1BA-EB0728E95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Prim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Memoria Principal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cceso aleatorio (tiempo constant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tituida principalmente por una RA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DRAM)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demás existen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M,PROM,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PROM, EEPROM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3520" y="761760"/>
            <a:ext cx="3429000" cy="609480"/>
            <a:chOff x="533520" y="761760"/>
            <a:chExt cx="3429000" cy="609480"/>
          </a:xfrm>
        </p:grpSpPr>
        <p:sp>
          <p:nvSpPr>
            <p:cNvPr id="196" name=""/>
            <p:cNvSpPr/>
            <p:nvPr/>
          </p:nvSpPr>
          <p:spPr>
            <a:xfrm flipV="1">
              <a:off x="533520" y="761040"/>
              <a:ext cx="3429000" cy="609480"/>
            </a:xfrm>
            <a:custGeom>
              <a:avLst/>
              <a:gdLst>
                <a:gd name="textAreaLeft" fmla="*/ 753840 w 3429000"/>
                <a:gd name="textAreaRight" fmla="*/ 2675160 w 342900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4160" y="8794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emoria Principa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198-2A47-4055-B6DE-1ED3856ED3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Secunda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46483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os Magnético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moria Op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ntas Magné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che del Disc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4182120"/>
            <a:ext cx="8076960" cy="2324880"/>
            <a:chOff x="533520" y="4182120"/>
            <a:chExt cx="8076960" cy="2324880"/>
          </a:xfrm>
        </p:grpSpPr>
        <p:sp>
          <p:nvSpPr>
            <p:cNvPr id="201" name=""/>
            <p:cNvSpPr/>
            <p:nvPr/>
          </p:nvSpPr>
          <p:spPr>
            <a:xfrm>
              <a:off x="544680" y="6440400"/>
              <a:ext cx="7327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520" y="4449600"/>
              <a:ext cx="1600200" cy="1990800"/>
            </a:xfrm>
            <a:custGeom>
              <a:avLst/>
              <a:gdLst/>
              <a:ahLst/>
              <a:rect l="l" t="t" r="r" b="b"/>
              <a:pathLst>
                <a:path w="2247" h="3220">
                  <a:moveTo>
                    <a:pt x="2247" y="0"/>
                  </a:moveTo>
                  <a:lnTo>
                    <a:pt x="0" y="322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4449600"/>
              <a:ext cx="1846080" cy="20574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89080" y="4430520"/>
              <a:ext cx="3940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5520" y="5102280"/>
              <a:ext cx="499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30320" y="5840280"/>
              <a:ext cx="6199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52120" y="4654440"/>
              <a:ext cx="1684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Cache del Dis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0080" y="5391000"/>
              <a:ext cx="1752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isco Magnéti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31000" y="606276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Cinta Magnétic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8480" y="6062760"/>
              <a:ext cx="139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isco Opti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95640" y="5835600"/>
              <a:ext cx="1800" cy="617400"/>
            </a:xfrm>
            <a:custGeom>
              <a:avLst/>
              <a:gdLst/>
              <a:ahLst/>
              <a:rect l="l" t="t" r="r" b="b"/>
              <a:pathLst>
                <a:path w="1" h="442">
                  <a:moveTo>
                    <a:pt x="0" y="0"/>
                  </a:moveTo>
                  <a:lnTo>
                    <a:pt x="0" y="442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9142400">
              <a:off x="6958080" y="4114440"/>
              <a:ext cx="642960" cy="2271600"/>
            </a:xfrm>
            <a:custGeom>
              <a:avLst/>
              <a:gdLst>
                <a:gd name="textAreaLeft" fmla="*/ 0 w 642960"/>
                <a:gd name="textAreaRight" fmla="*/ 232200 w 642960"/>
                <a:gd name="textAreaTop" fmla="*/ 59040 h 2271600"/>
                <a:gd name="textAreaBottom" fmla="*/ 2212560 h 22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40520" y="4375080"/>
              <a:ext cx="15699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Memoria Secundari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1C4-A89A-4815-A9E2-EE5D291F72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Secundaria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co Magnéti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cceso Directo (tiempo variab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splazamiento de Cabez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ransportabi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uperfic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la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ecanismo de Cabez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3520" y="761760"/>
            <a:ext cx="3429000" cy="609480"/>
            <a:chOff x="533520" y="761760"/>
            <a:chExt cx="3429000" cy="609480"/>
          </a:xfrm>
        </p:grpSpPr>
        <p:sp>
          <p:nvSpPr>
            <p:cNvPr id="217" name=""/>
            <p:cNvSpPr/>
            <p:nvPr/>
          </p:nvSpPr>
          <p:spPr>
            <a:xfrm flipV="1">
              <a:off x="533520" y="761040"/>
              <a:ext cx="3429000" cy="609480"/>
            </a:xfrm>
            <a:custGeom>
              <a:avLst/>
              <a:gdLst>
                <a:gd name="textAreaLeft" fmla="*/ 753840 w 3429000"/>
                <a:gd name="textAreaRight" fmla="*/ 2675160 w 342900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5960" y="87948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isco Magnétic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B49-12B2-46B7-BD00-0852DA0711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squem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cos Magnétic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1905120"/>
          <a:ext cx="92203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220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330-FDED-4916-B8A5-E9EF7D580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tribución de la información en un Disco Magnéti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fig5_1" descr=""/>
          <p:cNvPicPr/>
          <p:nvPr/>
        </p:nvPicPr>
        <p:blipFill>
          <a:blip r:embed="rId1"/>
          <a:stretch/>
        </p:blipFill>
        <p:spPr>
          <a:xfrm>
            <a:off x="-76320" y="1828800"/>
            <a:ext cx="952524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89400" y="1717560"/>
            <a:ext cx="1195560" cy="4597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S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3400" y="1641600"/>
            <a:ext cx="1701720" cy="4597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1160" y="2174760"/>
            <a:ext cx="2478960" cy="4597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BLO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2479680"/>
            <a:ext cx="2438640" cy="4597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IS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E71-6785-4678-A093-C082C7EB7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Secund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Memoria Optic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ormada por una superficie altamente reflectante y orificios que contienen la inform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cceso Directo (tiempo variabl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Gran capacidad de almacenamien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228600"/>
            <a:ext cx="2362320" cy="568440"/>
            <a:chOff x="228600" y="228600"/>
            <a:chExt cx="2362320" cy="568440"/>
          </a:xfrm>
        </p:grpSpPr>
        <p:sp>
          <p:nvSpPr>
            <p:cNvPr id="231" name=""/>
            <p:cNvSpPr/>
            <p:nvPr/>
          </p:nvSpPr>
          <p:spPr>
            <a:xfrm>
              <a:off x="228600" y="263520"/>
              <a:ext cx="2362320" cy="533520"/>
            </a:xfrm>
            <a:custGeom>
              <a:avLst/>
              <a:gdLst/>
              <a:ahLst/>
              <a:rect l="l" t="t" r="r" b="b"/>
              <a:pathLst>
                <a:path w="1248" h="336">
                  <a:moveTo>
                    <a:pt x="0" y="0"/>
                  </a:moveTo>
                  <a:lnTo>
                    <a:pt x="960" y="0"/>
                  </a:lnTo>
                  <a:lnTo>
                    <a:pt x="1248" y="336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440" y="22860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isco Optic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A6E-4D70-4F16-9CEE-BAD9CC510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Secundaria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Tipos de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Memoria Optic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D-ROM disco compacto de memo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D-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V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WOR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sco Optico Borrable (CD-RW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20" y="152280"/>
            <a:ext cx="2361960" cy="568440"/>
            <a:chOff x="76320" y="152280"/>
            <a:chExt cx="2361960" cy="568440"/>
          </a:xfrm>
        </p:grpSpPr>
        <p:sp>
          <p:nvSpPr>
            <p:cNvPr id="236" name=""/>
            <p:cNvSpPr/>
            <p:nvPr/>
          </p:nvSpPr>
          <p:spPr>
            <a:xfrm>
              <a:off x="76320" y="187200"/>
              <a:ext cx="2361960" cy="533520"/>
            </a:xfrm>
            <a:custGeom>
              <a:avLst/>
              <a:gdLst/>
              <a:ahLst/>
              <a:rect l="l" t="t" r="r" b="b"/>
              <a:pathLst>
                <a:path w="1248" h="336">
                  <a:moveTo>
                    <a:pt x="0" y="0"/>
                  </a:moveTo>
                  <a:lnTo>
                    <a:pt x="960" y="0"/>
                  </a:lnTo>
                  <a:lnTo>
                    <a:pt x="1248" y="336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6440" y="15228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isco Optic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79D-E221-40F5-A350-D8B074CF36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bjetivo del Trabaj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Ventaja de Jerarquizar en Niveles la Memoria dentro de un computad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yor Niv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 Mayor cercanía entre CPU y Memoria 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62520" y="4190400"/>
            <a:ext cx="990360" cy="1066680"/>
          </a:xfrm>
          <a:prstGeom prst="downArrow">
            <a:avLst>
              <a:gd name="adj1" fmla="val 50000"/>
              <a:gd name="adj2" fmla="val 2692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3FC-B798-4600-B893-D67C2F9EF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Secund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intas Magné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eso Secuencial (tiempo de acceso variabl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o Principal : respaldo de inform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tante Económ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muy lento ac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0520" y="380880"/>
            <a:ext cx="2667240" cy="533520"/>
            <a:chOff x="380520" y="380880"/>
            <a:chExt cx="2667240" cy="533520"/>
          </a:xfrm>
        </p:grpSpPr>
        <p:sp>
          <p:nvSpPr>
            <p:cNvPr id="241" name=""/>
            <p:cNvSpPr/>
            <p:nvPr/>
          </p:nvSpPr>
          <p:spPr>
            <a:xfrm flipH="1">
              <a:off x="380160" y="380880"/>
              <a:ext cx="2667240" cy="533520"/>
            </a:xfrm>
            <a:custGeom>
              <a:avLst/>
              <a:gdLst/>
              <a:ahLst/>
              <a:rect l="l" t="t" r="r" b="b"/>
              <a:pathLst>
                <a:path w="1248" h="336">
                  <a:moveTo>
                    <a:pt x="0" y="0"/>
                  </a:moveTo>
                  <a:lnTo>
                    <a:pt x="960" y="0"/>
                  </a:lnTo>
                  <a:lnTo>
                    <a:pt x="1248" y="336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66080" y="38088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inta Magnetic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926-676F-4AB4-B065-56F470DA6C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Secund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ache del Dis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 hace uso del concepto de memorias de dos nivel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n implementadas parcialmente en el sistema operativ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ismo principio que la memoria cach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228240"/>
            <a:ext cx="3429000" cy="609480"/>
            <a:chOff x="0" y="228240"/>
            <a:chExt cx="3429000" cy="609480"/>
          </a:xfrm>
        </p:grpSpPr>
        <p:sp>
          <p:nvSpPr>
            <p:cNvPr id="246" name=""/>
            <p:cNvSpPr/>
            <p:nvPr/>
          </p:nvSpPr>
          <p:spPr>
            <a:xfrm flipV="1">
              <a:off x="0" y="227520"/>
              <a:ext cx="3429000" cy="609480"/>
            </a:xfrm>
            <a:custGeom>
              <a:avLst/>
              <a:gdLst>
                <a:gd name="textAreaLeft" fmla="*/ 753840 w 3429000"/>
                <a:gd name="textAreaRight" fmla="*/ 2675160 w 342900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160" y="345960"/>
              <a:ext cx="218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ache del Disc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0C1-86F6-4065-8F1A-9105B09771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Vir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fini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emoria que es vista por el usuario como una memoria principal direcionable, donde las direcciones virtuales se transforman en direcciones re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racterístic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u tamaño esta limitado por la forma de direccionamiento y por cantidad de memoria disponi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2D5-A643-4525-A6C9-9BD779FAFC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idad que las memorias cumplan los requerimientos de la CPU en velocidad, capacidad y cos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epto de memorias en dos nive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stión de Memoria por parte del Sistema Opera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91E-9718-45BD-B349-347F64C4A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uadro Comparativo de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. Primaria - Secundar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3581280"/>
          <a:ext cx="928512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1280"/>
                    <a:ext cx="9285120" cy="129564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56" name=""/>
          <p:cNvGrpSpPr/>
          <p:nvPr/>
        </p:nvGrpSpPr>
        <p:grpSpPr>
          <a:xfrm>
            <a:off x="1905120" y="2133720"/>
            <a:ext cx="1523880" cy="838080"/>
            <a:chOff x="1905120" y="2133720"/>
            <a:chExt cx="1523880" cy="838080"/>
          </a:xfrm>
        </p:grpSpPr>
        <p:sp>
          <p:nvSpPr>
            <p:cNvPr id="257" name=""/>
            <p:cNvSpPr/>
            <p:nvPr/>
          </p:nvSpPr>
          <p:spPr>
            <a:xfrm>
              <a:off x="1905120" y="2133720"/>
              <a:ext cx="1523880" cy="838080"/>
            </a:xfrm>
            <a:prstGeom prst="wedgeEllipseCallout">
              <a:avLst>
                <a:gd name="adj1" fmla="val 28023"/>
                <a:gd name="adj2" fmla="val 133333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42280" y="2251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ach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809880" y="5410080"/>
            <a:ext cx="1524240" cy="838440"/>
            <a:chOff x="3809880" y="5410080"/>
            <a:chExt cx="1524240" cy="838440"/>
          </a:xfrm>
        </p:grpSpPr>
        <p:sp>
          <p:nvSpPr>
            <p:cNvPr id="260" name=""/>
            <p:cNvSpPr/>
            <p:nvPr/>
          </p:nvSpPr>
          <p:spPr>
            <a:xfrm>
              <a:off x="3809880" y="5410080"/>
              <a:ext cx="1524240" cy="838440"/>
            </a:xfrm>
            <a:prstGeom prst="wedgeEllipseCallout">
              <a:avLst>
                <a:gd name="adj1" fmla="val 53541"/>
                <a:gd name="adj2" fmla="val -150759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49200" y="56037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705720" y="2057400"/>
            <a:ext cx="1981080" cy="990720"/>
            <a:chOff x="6705720" y="2057400"/>
            <a:chExt cx="1981080" cy="990720"/>
          </a:xfrm>
        </p:grpSpPr>
        <p:sp>
          <p:nvSpPr>
            <p:cNvPr id="263" name=""/>
            <p:cNvSpPr/>
            <p:nvPr/>
          </p:nvSpPr>
          <p:spPr>
            <a:xfrm>
              <a:off x="6705720" y="2057400"/>
              <a:ext cx="1981080" cy="990720"/>
            </a:xfrm>
            <a:prstGeom prst="wedgeEllipseCallout">
              <a:avLst>
                <a:gd name="adj1" fmla="val -4166"/>
                <a:gd name="adj2" fmla="val 108333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97680" y="2133720"/>
              <a:ext cx="15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emori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Secundari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332-A68B-4281-97EC-C02AD47861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che - Memoria Princip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fig2_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4381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0787400">
            <a:off x="2814480" y="3123720"/>
            <a:ext cx="2594160" cy="2327400"/>
          </a:xfrm>
          <a:prstGeom prst="uturnArrow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2133720"/>
            <a:ext cx="609840" cy="990360"/>
          </a:xfrm>
          <a:custGeom>
            <a:avLst/>
            <a:gdLst>
              <a:gd name="textAreaLeft" fmla="*/ 0 w 609840"/>
              <a:gd name="textAreaRight" fmla="*/ 610200 w 6098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62F-1E80-434F-A4D5-9BBC34877D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ión de Correspondencia Directa en la Cach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3429000"/>
          <a:ext cx="7391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429000"/>
                    <a:ext cx="7391520" cy="29718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cada bloque de memoria principal le corresponde solo una línea posible de cache.</a:t>
            </a:r>
            <a:br>
              <a:rPr sz="1400"/>
            </a:b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387-8F10-4CB2-9512-43939A0D93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ión de Correspondencia Asociativa en la Cach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3124080"/>
          <a:ext cx="7696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696080" cy="304812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úmero de bloque completo en Memoria Principal corresponde a la etiqueta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444-B5DA-439C-9711-8789634ED0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Fcn. de Correspondencia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 Asoc. por Conj. en la Cache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ada bloque de memoria puede ser ubicado en uno de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bloques de la Cache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2120" y="3200400"/>
          <a:ext cx="76197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19760" cy="327672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11D-6370-4076-A9E2-5059DE2E63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lgoritmos de Sustitución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 la Cach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RU  : utilizado menos reciente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O : primero en entrar - primero en sal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FU  : utilizado menos frecuente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eato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F7D-D909-4AE0-A22E-4C0D17180E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iveles de Memo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IMA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yor costo/bit ($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or Capac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or Tiempo de Ac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SECUNDA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or costo/bit ($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yor Capac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yor Tiempo de Ac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D86-91C1-4FE2-9FE5-5100842B3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líticas de Escritura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 la Cach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COHERENCIA DE CAC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ternativ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- Escritura Inmediata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Sincrónic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- Post- Escritura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Asincrónic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tros : Vigilancia del bus en escritura inmediata, Transparencia Hardware, Memoria Excluida de Cach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28600"/>
            <a:ext cx="990720" cy="762120"/>
          </a:xfrm>
          <a:prstGeom prst="foldedCorner">
            <a:avLst>
              <a:gd name="adj" fmla="val 445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x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E6E-AFAE-45E8-A02C-0C802012FE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793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erarquización de la Memor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60560" y="1600200"/>
            <a:ext cx="8076600" cy="4572000"/>
            <a:chOff x="1060560" y="1600200"/>
            <a:chExt cx="8076600" cy="4572000"/>
          </a:xfrm>
        </p:grpSpPr>
        <p:sp>
          <p:nvSpPr>
            <p:cNvPr id="102" name=""/>
            <p:cNvSpPr/>
            <p:nvPr/>
          </p:nvSpPr>
          <p:spPr>
            <a:xfrm>
              <a:off x="1071360" y="6105600"/>
              <a:ext cx="7327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0560" y="1600200"/>
              <a:ext cx="3304800" cy="4505400"/>
            </a:xfrm>
            <a:custGeom>
              <a:avLst/>
              <a:gdLst/>
              <a:ahLst/>
              <a:rect l="l" t="t" r="r" b="b"/>
              <a:pathLst>
                <a:path w="2247" h="3220">
                  <a:moveTo>
                    <a:pt x="2247" y="0"/>
                  </a:moveTo>
                  <a:lnTo>
                    <a:pt x="0" y="322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200" y="1617840"/>
              <a:ext cx="4011480" cy="4554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5040" y="2752560"/>
              <a:ext cx="17506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9680" y="3357720"/>
              <a:ext cx="2811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16120" y="4095720"/>
              <a:ext cx="3939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22200" y="4767120"/>
              <a:ext cx="499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57360" y="5505480"/>
              <a:ext cx="6198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7880" y="237168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Registr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0240" y="2975040"/>
              <a:ext cx="75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Cach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65680" y="3646440"/>
              <a:ext cx="196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Memoria  Princip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9160" y="4319640"/>
              <a:ext cx="1684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Cache del Dis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66760" y="5056200"/>
              <a:ext cx="1752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isco Magnéti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57680" y="572760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Cinta Magnétic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15160" y="5727600"/>
              <a:ext cx="139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isco Opti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2680" y="5500800"/>
              <a:ext cx="1080" cy="617400"/>
            </a:xfrm>
            <a:custGeom>
              <a:avLst/>
              <a:gdLst/>
              <a:ahLst/>
              <a:rect l="l" t="t" r="r" b="b"/>
              <a:pathLst>
                <a:path w="1" h="442">
                  <a:moveTo>
                    <a:pt x="0" y="0"/>
                  </a:moveTo>
                  <a:lnTo>
                    <a:pt x="0" y="442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12600">
              <a:off x="2859120" y="1692360"/>
              <a:ext cx="380520" cy="2238120"/>
            </a:xfrm>
            <a:custGeom>
              <a:avLst/>
              <a:gdLst>
                <a:gd name="textAreaLeft" fmla="*/ 243000 w 380520"/>
                <a:gd name="textAreaRight" fmla="*/ 380880 w 380520"/>
                <a:gd name="textAreaTop" fmla="*/ 58320 h 2238120"/>
                <a:gd name="textAreaBottom" fmla="*/ 217980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93"/>
                  </a:lnTo>
                  <a:cubicBezTo>
                    <a:pt x="10800" y="8893"/>
                    <a:pt x="5400" y="9793"/>
                    <a:pt x="0" y="9793"/>
                  </a:cubicBezTo>
                  <a:cubicBezTo>
                    <a:pt x="5400" y="9793"/>
                    <a:pt x="10800" y="10693"/>
                    <a:pt x="10800" y="115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22320" y="2133720"/>
              <a:ext cx="1265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Memoria Primari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19142400">
              <a:off x="7484760" y="3779280"/>
              <a:ext cx="642600" cy="2271600"/>
            </a:xfrm>
            <a:custGeom>
              <a:avLst/>
              <a:gdLst>
                <a:gd name="textAreaLeft" fmla="*/ 0 w 642600"/>
                <a:gd name="textAreaRight" fmla="*/ 231840 w 642600"/>
                <a:gd name="textAreaTop" fmla="*/ 59040 h 2271600"/>
                <a:gd name="textAreaBottom" fmla="*/ 2212560 h 22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7560" y="4040280"/>
              <a:ext cx="1569600" cy="11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Memoria Secundari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E6A-6101-472D-B192-658619608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s dentro del Computa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77840" y="2479680"/>
            <a:ext cx="1611720" cy="33732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FERICO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438280"/>
            <a:ext cx="2971800" cy="33732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NEAS DE COMUNIC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3048120"/>
            <a:ext cx="6858000" cy="3809880"/>
            <a:chOff x="1295280" y="3048120"/>
            <a:chExt cx="6858000" cy="3809880"/>
          </a:xfrm>
        </p:grpSpPr>
        <p:sp>
          <p:nvSpPr>
            <p:cNvPr id="126" name=""/>
            <p:cNvSpPr/>
            <p:nvPr/>
          </p:nvSpPr>
          <p:spPr>
            <a:xfrm>
              <a:off x="1295280" y="3048120"/>
              <a:ext cx="6858000" cy="3809880"/>
            </a:xfrm>
            <a:prstGeom prst="ellipse">
              <a:avLst/>
            </a:prstGeom>
            <a:solidFill>
              <a:srgbClr val="ff9933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5480" y="4659480"/>
              <a:ext cx="3381480" cy="1247760"/>
            </a:xfrm>
            <a:prstGeom prst="ellipse">
              <a:avLst/>
            </a:prstGeom>
            <a:solidFill>
              <a:srgbClr val="ff9933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1920" y="3971880"/>
              <a:ext cx="1989000" cy="1125720"/>
            </a:xfrm>
            <a:prstGeom prst="ellipse">
              <a:avLst/>
            </a:prstGeom>
            <a:solidFill>
              <a:srgbClr val="ff9933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46760" y="3971880"/>
              <a:ext cx="2284200" cy="1125720"/>
            </a:xfrm>
            <a:prstGeom prst="ellipse">
              <a:avLst/>
            </a:prstGeom>
            <a:solidFill>
              <a:srgbClr val="ff9933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18000" y="5657760"/>
              <a:ext cx="1990800" cy="1123920"/>
            </a:xfrm>
            <a:prstGeom prst="ellipse">
              <a:avLst/>
            </a:prstGeom>
            <a:solidFill>
              <a:srgbClr val="ff9933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3400" y="4114800"/>
              <a:ext cx="1468440" cy="82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emori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61160" y="5791320"/>
              <a:ext cx="1180440" cy="82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4960" y="4913280"/>
              <a:ext cx="2178720" cy="82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terconexió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e Sistema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6920" y="4322880"/>
              <a:ext cx="822240" cy="459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760" y="3352320"/>
              <a:ext cx="2898000" cy="6426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9011600">
            <a:off x="1371600" y="2895480"/>
            <a:ext cx="457200" cy="838440"/>
          </a:xfrm>
          <a:prstGeom prst="upDownArrow">
            <a:avLst>
              <a:gd name="adj1" fmla="val 50000"/>
              <a:gd name="adj2" fmla="val 3650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3612200">
            <a:off x="7657920" y="2932920"/>
            <a:ext cx="457200" cy="838440"/>
          </a:xfrm>
          <a:prstGeom prst="upDownArrow">
            <a:avLst>
              <a:gd name="adj1" fmla="val 50000"/>
              <a:gd name="adj2" fmla="val 3650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C08-2D8F-4040-9971-6DD806F61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793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¿Cómo la CPU utiliza las Memoria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0560" y="1600200"/>
            <a:ext cx="8076600" cy="4572000"/>
            <a:chOff x="1060560" y="1600200"/>
            <a:chExt cx="8076600" cy="4572000"/>
          </a:xfrm>
        </p:grpSpPr>
        <p:sp>
          <p:nvSpPr>
            <p:cNvPr id="140" name=""/>
            <p:cNvSpPr/>
            <p:nvPr/>
          </p:nvSpPr>
          <p:spPr>
            <a:xfrm>
              <a:off x="1071360" y="6105600"/>
              <a:ext cx="7327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0560" y="1600200"/>
              <a:ext cx="3304800" cy="4505400"/>
            </a:xfrm>
            <a:custGeom>
              <a:avLst/>
              <a:gdLst/>
              <a:ahLst/>
              <a:rect l="l" t="t" r="r" b="b"/>
              <a:pathLst>
                <a:path w="2247" h="3220">
                  <a:moveTo>
                    <a:pt x="2247" y="0"/>
                  </a:moveTo>
                  <a:lnTo>
                    <a:pt x="0" y="322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81200" y="1617840"/>
              <a:ext cx="4011480" cy="4554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5040" y="2752560"/>
              <a:ext cx="17506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09680" y="3357720"/>
              <a:ext cx="2811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16120" y="4095720"/>
              <a:ext cx="3939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22200" y="4767120"/>
              <a:ext cx="499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57360" y="5505480"/>
              <a:ext cx="6198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7880" y="237168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Registr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80240" y="2975040"/>
              <a:ext cx="75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Cach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5680" y="3646440"/>
              <a:ext cx="196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Memoria  Princip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79160" y="4319640"/>
              <a:ext cx="1684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Cache del Dis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6760" y="5056200"/>
              <a:ext cx="1752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isco Magnéti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57680" y="572760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Cinta Magnétic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15160" y="5727600"/>
              <a:ext cx="139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isco Optic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22680" y="5500800"/>
              <a:ext cx="1080" cy="617400"/>
            </a:xfrm>
            <a:custGeom>
              <a:avLst/>
              <a:gdLst/>
              <a:ahLst/>
              <a:rect l="l" t="t" r="r" b="b"/>
              <a:pathLst>
                <a:path w="1" h="442">
                  <a:moveTo>
                    <a:pt x="0" y="0"/>
                  </a:moveTo>
                  <a:lnTo>
                    <a:pt x="0" y="442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12600">
              <a:off x="2859120" y="1692360"/>
              <a:ext cx="380520" cy="2238120"/>
            </a:xfrm>
            <a:custGeom>
              <a:avLst/>
              <a:gdLst>
                <a:gd name="textAreaLeft" fmla="*/ 243000 w 380520"/>
                <a:gd name="textAreaRight" fmla="*/ 380880 w 380520"/>
                <a:gd name="textAreaTop" fmla="*/ 58320 h 2238120"/>
                <a:gd name="textAreaBottom" fmla="*/ 217980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93"/>
                  </a:lnTo>
                  <a:cubicBezTo>
                    <a:pt x="10800" y="8893"/>
                    <a:pt x="5400" y="9793"/>
                    <a:pt x="0" y="9793"/>
                  </a:cubicBezTo>
                  <a:cubicBezTo>
                    <a:pt x="5400" y="9793"/>
                    <a:pt x="10800" y="10693"/>
                    <a:pt x="10800" y="115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2320" y="2133720"/>
              <a:ext cx="1265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Memoria Primari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9142400">
              <a:off x="7484760" y="3779280"/>
              <a:ext cx="642600" cy="2271600"/>
            </a:xfrm>
            <a:custGeom>
              <a:avLst/>
              <a:gdLst>
                <a:gd name="textAreaLeft" fmla="*/ 0 w 642600"/>
                <a:gd name="textAreaRight" fmla="*/ 231840 w 642600"/>
                <a:gd name="textAreaTop" fmla="*/ 59040 h 2271600"/>
                <a:gd name="textAreaBottom" fmla="*/ 2212560 h 22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67560" y="4040280"/>
              <a:ext cx="1569600" cy="11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Memoria Secundari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8480" y="160020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074-18CC-499D-95FB-95B6711407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 Optimización en el uso de la memoria se basa en 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rincipio de Localidad de Refere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ta Probabilidad de que un elemento sea referenciado más de una v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(Localidad Tempor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ta Probabilidad de referenciar un elemento cercano al que ya ha sido referenci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(Localidad Espaci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211-10FC-48FF-AFB1-86D866B1A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Prima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fig2_2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723888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133720" y="1600200"/>
            <a:ext cx="4733640" cy="2514600"/>
            <a:chOff x="2133720" y="1600200"/>
            <a:chExt cx="4733640" cy="2514600"/>
          </a:xfrm>
        </p:grpSpPr>
        <p:sp>
          <p:nvSpPr>
            <p:cNvPr id="166" name=""/>
            <p:cNvSpPr/>
            <p:nvPr/>
          </p:nvSpPr>
          <p:spPr>
            <a:xfrm>
              <a:off x="2825640" y="1600200"/>
              <a:ext cx="1851120" cy="2514600"/>
            </a:xfrm>
            <a:custGeom>
              <a:avLst/>
              <a:gdLst/>
              <a:ahLst/>
              <a:rect l="l" t="t" r="r" b="b"/>
              <a:pathLst>
                <a:path w="2247" h="3220">
                  <a:moveTo>
                    <a:pt x="2247" y="0"/>
                  </a:moveTo>
                  <a:lnTo>
                    <a:pt x="0" y="322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92600" y="1617840"/>
              <a:ext cx="2171880" cy="2496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16440" y="2752560"/>
              <a:ext cx="17510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1080" y="3357720"/>
              <a:ext cx="2811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27520" y="4095720"/>
              <a:ext cx="3939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19280" y="237168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Registr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91640" y="2975040"/>
              <a:ext cx="75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Cach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77080" y="3646440"/>
              <a:ext cx="196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imes New Roman"/>
                </a:rPr>
                <a:t>Memoria  Princip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112600">
              <a:off x="3169800" y="1692360"/>
              <a:ext cx="381240" cy="2238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58320 h 2238120"/>
                <a:gd name="textAreaBottom" fmla="*/ 217980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93"/>
                  </a:lnTo>
                  <a:cubicBezTo>
                    <a:pt x="10800" y="8893"/>
                    <a:pt x="5400" y="9793"/>
                    <a:pt x="0" y="9793"/>
                  </a:cubicBezTo>
                  <a:cubicBezTo>
                    <a:pt x="5400" y="9793"/>
                    <a:pt x="10800" y="10693"/>
                    <a:pt x="10800" y="115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2133720"/>
              <a:ext cx="1265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Memoria Primari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3E4-7589-4283-9EAC-AF68B2136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ia Primaria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Registr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Arial"/>
              </a:rPr>
              <a:t>Clasific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Registros Visibles o Accesibles al Usuari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( Uso general, Datos, Direcciones, Códigos de Condición 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Registros de Control y de Esta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(Contador de Programa PC, Registro de Instrucción IR ,Registro de Dirección de Memoria MAR, Registro Intermedio de Memoria MBR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Otro de inter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(PSW : Program Status Wor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5800" y="380880"/>
            <a:ext cx="1904760" cy="990720"/>
            <a:chOff x="685800" y="380880"/>
            <a:chExt cx="1904760" cy="990720"/>
          </a:xfrm>
        </p:grpSpPr>
        <p:sp>
          <p:nvSpPr>
            <p:cNvPr id="179" name=""/>
            <p:cNvSpPr/>
            <p:nvPr/>
          </p:nvSpPr>
          <p:spPr>
            <a:xfrm>
              <a:off x="685800" y="380880"/>
              <a:ext cx="1904760" cy="9907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0840" y="87948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Registro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A14-00FF-4475-8990-EB3891DB60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1:34:57Z</dcterms:created>
  <dc:creator>MARY CARMEN JARUR MUÑOZ</dc:creator>
  <dc:description/>
  <dc:language>en-US</dc:language>
  <cp:lastModifiedBy>MARY CARMEN JARUR MUÑOZ</cp:lastModifiedBy>
  <dcterms:modified xsi:type="dcterms:W3CDTF">2001-04-17T23:27:23Z</dcterms:modified>
  <cp:revision>107</cp:revision>
  <dc:subject/>
  <dc:title>Niveles de Memoria  Primaria y Secundaria</dc:title>
</cp:coreProperties>
</file>